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F068-3489-4B90-8AD4-ACC84288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1C45-F03C-4501-9E03-65766B3FA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1DD5-7C41-4F2B-A4A6-209107F74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FFB0-4666-42F9-80BC-B2EC3145B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0672-2782-4480-B50E-5D7519870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78EF-726E-49E9-A6FF-95B71350A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7627-A61D-4F93-ADB4-3D9B6BE3D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7BC2-B3E0-4ED1-A6C8-9AA508D1F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AF1C-A1B7-4340-ADB2-5F901482E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C598-A17F-4088-BDE1-084F0389B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2938-79D1-43BA-9AE3-0EE8B24CE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F420-75A2-4B20-9B4E-E3283E9A6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D6D-46EB-429C-81A2-D6A7BE2A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5C5-4030-4023-BB6D-E23E0199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C20-5AB3-441E-8D39-2A993990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099-6190-477D-9DDA-A0464FCC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558-3952-40C4-9AE7-9FE796B1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BB6-27F2-479B-B5BD-D18CD15B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AD4-C79F-44D8-9191-EBDFA9FB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D0F-7542-4E20-8C88-66290895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5FE-CB99-4936-8C47-6C37DA97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BC3-05BC-46AB-B808-04BD794D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B7E-68C9-4560-98A1-01BFB49C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661-0EC7-4D04-8003-562527C0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0228-11F5-405A-98C8-FD08A7543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Uni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- Fly Sw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adaptations would most likely be found in plants that live in dry environ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le like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p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xy cu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storage in the 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st abundant tissue in a tree trunk 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baceous 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soft, green &amp;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monocots or dic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held upright by wate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amp; C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would increase the rate of transpi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 &amp;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would cause leaf stomata to cl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olecules moving into guard cells by 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around the plant becoming hot &amp;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molecules being excreted out by guard cells &amp; water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&amp; C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elled extensions of the root epidermis which increases water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llings in the stem from which some roots or new leaves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getative plant organ mainly involved in food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, inactive wood found at the center of a woody stem – unable to conduct materials due to clogging by resins, gums, &amp; tann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n herbaceous monocot stem differ from that of an herbaceous dic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lo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3 characteristics common to all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the appearance of annual 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3 functions of ro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3 functions of 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by which water vapor is released from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I –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055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055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773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440" y="9140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rous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ntitious 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ial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924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7467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001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 -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would cause stomata to cl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Sugar produced by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Extreme water loss on a hot, d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Both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 A, B,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of the cells of a leaf contain chlorophyll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ep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r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gy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 cells contain chlorophy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tissue of a leaf is considered to be the primary food making lay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isad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gy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of the following are tissues of bark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ep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s most important in moving water through a t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y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ave an equal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22:36:47Z</dcterms:created>
  <dc:creator>NHS NPS</dc:creator>
  <dc:description/>
  <dc:language>en-US</dc:language>
  <cp:lastModifiedBy>NHS NPS</cp:lastModifiedBy>
  <dcterms:modified xsi:type="dcterms:W3CDTF">2012-05-14T11:49:48Z</dcterms:modified>
  <cp:revision>4</cp:revision>
  <dc:subject/>
  <dc:title>Plant Unit Review</dc:title>
</cp:coreProperties>
</file>